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37B-519A-450B-9F5A-2B613D7F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BAB-AE35-41CB-BA2C-31C0C7FB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4DD2-610A-4223-8024-8DA247EA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1A3C-7699-4663-8DF8-6C9AFA16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0C2-ED2E-43F2-825F-F9109556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3A1-7BED-430B-A8B5-AC1DA1FC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DE4-FC41-47A4-8FBE-703C7215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337-FDD1-4F5E-8544-1F83BE63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AF9-E8EC-4D34-AA91-37237E8E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6E9A-D33C-44C0-941F-9666908E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8B9B-3364-4D7A-86C7-0B061906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81E-66B9-4E09-8FE1-51EC507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057E-1F1C-4934-80F7-C34044700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rcprensky.com/writing/Prensky%20-%20Digital%20Natives,%20Digital%20Immigrants%20-%20Part1.pdf" TargetMode="External"/><Relationship Id="rId2" Type="http://schemas.openxmlformats.org/officeDocument/2006/relationships/hyperlink" Target="http://www.marcprensky.com/writing/+Prensky-The_Reformers_Are_Leaving_Our_Schools_in_the_20th_Century-please_distribute_freely.pdf" TargetMode="External"/><Relationship Id="rId3" Type="http://schemas.openxmlformats.org/officeDocument/2006/relationships/hyperlink" Target="http://www.marcprensky.com/writing/+Prensky-The_Reformers_Are_Leaving_Our_Schools_in_the_20th_Century-please_distribute_freely.pdf" TargetMode="External"/><Relationship Id="rId4" Type="http://schemas.openxmlformats.org/officeDocument/2006/relationships/hyperlink" Target="http://www.marcprensky.com/writing/+Prensky-The_Reformers_Are_Leaving_Our_Schools_in_the_20th_Century-please_distribute_freely.pdf" TargetMode="External"/><Relationship Id="rId5" Type="http://schemas.openxmlformats.org/officeDocument/2006/relationships/hyperlink" Target="http://www.marcprensky.com/writing/Prensky-Blaming_Our_Young-01.pdf" TargetMode="External"/><Relationship Id="rId6" Type="http://schemas.openxmlformats.org/officeDocument/2006/relationships/hyperlink" Target="http://www.marcprensky.com/writing/Prensky-What_I_Learned_in_NYC_Classrooms-final.pdf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iigo.com/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://www.delicious.com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a.org/ala/issuesadvocacy/advocacy/federallegislation/cipa/cipatext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ogs, Wikis, Podcasts, and other Powerful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eb Tool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for Classro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320" y="2057040"/>
            <a:ext cx="44960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Will Richard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705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arental Approva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etter dealing with the use of b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odcas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ng a recording into published med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not to let production value overwhelm what might be really interesting cont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2895480" cy="1576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5800" y="4813200"/>
            <a:ext cx="327672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oday’s students enter their post-education professional lives, odds are pretty good that they will be asked to work with others from around the globe collaboratively to create content for diverse and wide-ranging audiences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e that to an educational system that, by and large, asks those same students to work independently for a very narrow audience (usually the teacher who gives the grade), and disconnect becomes painfully clear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ichard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 Richardson’s Big Shif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, Many Teachers, and 24/7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cial, Collaborative Construction of Meaningfu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ching Is Conversation, Not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 “Where”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ers Are No Longer Just R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eb as Notebook (or Portf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is No Longer Limited to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tery is the Product, Not th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ibution, Not Completion, as the Ultimate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2640" y="33523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reating vs. Consu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7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A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de it possible for readers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ent on any s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dding opinion, asking further questions, or even correcting what’s been written, and most other online newspapers are following suit.  In essenc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article is a blog p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gital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are building vast social networks with little or no guidance from adult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4336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c Prens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gital Native, Digital Immi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he Reformers are Leaving our Schools in the 20</a:t>
            </a:r>
            <a:r>
              <a:rPr b="0" lang="en-US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3"/>
              </a:rPr>
              <a:t>th</a:t>
            </a:r>
            <a:r>
              <a:rPr b="0" lang="en-US" sz="2800" spc="-1" strike="noStrike" u="sng" baseline="30000">
                <a:solidFill>
                  <a:srgbClr val="009999"/>
                </a:solidFill>
                <a:uFillTx/>
                <a:latin typeface="Arial"/>
                <a:hlinkClick r:id="rId4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Blame our Young? Or Use Their Pass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hat I Learned Recently in NYC Classro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ality is that the vast majority of educators have taken the work they had students do in the paper, analog world and simply digitize it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olbox” according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ichardson is a mix of thos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bl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os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nage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those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are con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new collaborative way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86560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logs (Blo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Simple Syndication (R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286560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hoto Gall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o/video-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Dii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914400"/>
            <a:ext cx="3476520" cy="1333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29718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afet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our obligation to teach [students] what is acceptable and safe and what isn’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Richard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ild Internet Protection Act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(CIP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9:12:55Z</dcterms:created>
  <dc:creator>setup</dc:creator>
  <dc:description/>
  <dc:language>en-US</dc:language>
  <cp:lastModifiedBy>setup</cp:lastModifiedBy>
  <dcterms:modified xsi:type="dcterms:W3CDTF">2011-06-16T21:08:38Z</dcterms:modified>
  <cp:revision>3</cp:revision>
  <dc:subject/>
  <dc:title>Content</dc:title>
</cp:coreProperties>
</file>